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400-A230-4763-A8C3-607E46E3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87C-1C9B-4BF2-9C0A-8DBB597C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41C-3EE5-4D93-BEAA-FABF3F86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EEA-DF8C-452C-9DDE-24BF35CF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0D5-7BAE-4A88-A145-5C19B8B6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1BE-8E55-4AD4-80CC-598FE835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083-D735-4969-8D5B-2AE312D5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B2D-B4D0-48E8-90CF-64C2AB90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85B-2369-4EF5-8EF6-F87B0B40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9B2-CCB5-4604-B47E-5B9AC18B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6F5-ADF5-4C3C-B676-5CD9C66A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77E-6E67-435D-A65D-DDB6D593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8CB7-F02D-41C1-9FA1-5A232FC26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issarro.vi/artist.htm" TargetMode="External"/><Relationship Id="rId2" Type="http://schemas.openxmlformats.org/officeDocument/2006/relationships/hyperlink" Target="http://www.nndb.com/people/864/000084612/" TargetMode="External"/><Relationship Id="rId3" Type="http://schemas.openxmlformats.org/officeDocument/2006/relationships/hyperlink" Target="http://www.camillepissarro.org/" TargetMode="External"/><Relationship Id="rId4" Type="http://schemas.openxmlformats.org/officeDocument/2006/relationships/hyperlink" Target="http://e-vint.com/impressionism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507600"/>
            <a:ext cx="84502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mille Pissar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8120" y="2031840"/>
            <a:ext cx="421452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iography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5800" y="1219320"/>
            <a:ext cx="966132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ssarro was born on July 10, 1830 on the Caribbean island of St.Thomas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operated a dry goods store and it is now known as the Pissarro Building in Charlotte Amal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lotte Amalie was a small port tow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mille spoke French at home and Spanish and English to the people of the isla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s parents sent him to Paris at age 12 to a boarding school, and he discovered a love for a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liked the landscapes in Pari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s nationality was Dutch and French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f a Jewish relig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f four childr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married Julie Vellay, in 187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had eight childr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they Looked Like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 had a very long bea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mille was 73 years old when 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 the second youngest chil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d 8 childr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 he was older he suffered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m in eye infecti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5880" y="1320840"/>
            <a:ext cx="34578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bout his Painting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2560" y="1609200"/>
            <a:ext cx="407016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rew a lot of oil paintings with many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sarro liked to paint different landscapes in Paris and London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his life time he sold very few oil paintings, but by 2005 his paintings were selling up to 2-4 million dolla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his paintings were destroyed. Of the 1,500 their were 40 left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3120" y="1627200"/>
            <a:ext cx="49086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aintings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1520" y="2641680"/>
            <a:ext cx="4681440" cy="4635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78440" y="2540160"/>
            <a:ext cx="4932360" cy="46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24600" y="1727280"/>
            <a:ext cx="4410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Boulevard Montmartre on a Winter Morning, 189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rench Impressionis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 a movement in French painting that produced in impression of a subject by using reflected ligh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veloped in the 19th century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essionists broke many of the rules of picture making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essionists paintings were easily spotted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eir paintings the colors were unmixed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2640" y="299880"/>
            <a:ext cx="96598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pissarro.vi/artist.ht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nndb.com/people/864/000084612/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camillepissarro.org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e-vint.com/impressionism.ht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smith</cp:lastModifiedBy>
  <dcterms:modified xsi:type="dcterms:W3CDTF">2011-10-05T01:26:28Z</dcterms:modified>
  <cp:revision>1</cp:revision>
  <dc:subject/>
  <dc:title>PowerPoint Presentation</dc:title>
</cp:coreProperties>
</file>